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98D-E0A1-4653-BF8A-A2DF0533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FE64-B4A9-46B3-9DB7-7D420954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136-92AF-4695-9554-3655755F2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F56C-A1B3-47A7-B9C8-EF0C52F0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3B6B-3B67-44F1-8C81-7E7AE90A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696C-8D4D-47F4-802A-12B04658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7BAD-EE9D-4952-B0A7-8E147D51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EAF-D3E5-4ED0-A670-06E8B865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71F-B32C-439A-9C55-7E61EEF0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413B-A84C-4781-9F0D-7C58AE09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344F-9BE8-4BB6-A3EE-A9E73F04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3435-6EBA-4C1C-967E-CB565295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3443-30F0-4763-ABEE-1451D88772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00000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hapter 16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AGONY OF RECONSTRUC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160" y="4572000"/>
            <a:ext cx="7924680" cy="17524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000000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Bree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Fredrickso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William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Br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65800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construc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74" name="Picture 7" descr="DIVI7233327"/>
          <p:cNvPicPr/>
          <p:nvPr/>
        </p:nvPicPr>
        <p:blipFill>
          <a:blip r:embed="rId2"/>
          <a:stretch/>
        </p:blipFill>
        <p:spPr>
          <a:xfrm>
            <a:off x="533520" y="1752480"/>
            <a:ext cx="8076960" cy="479592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Impeachment Crisi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 obstructs Congressional Re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limits Presidential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ure of Office 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, 1868: Congress impe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ate refuses to convict John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cal Republicans seen as subversive of Constitution, lose public suppo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Reconstructing Southern Society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contending interests in Sou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thern whites seek to keep newly freed blacks inf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thern whites seek to make money or to "civilize" the re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s seek e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line of federal interest in Reconstruction permits triumph of reaction and rac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organizing Land and Labor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56390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-slaves wish to work their own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government sometimes grant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 reverts to white owners under John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eowners try to impose contract lab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s insist on sharecro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cropping soon becomes peon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Black Codes: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 New Name for Slavery?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314440"/>
            <a:ext cx="8229600" cy="37814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increasingly segregated after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 Codes designed to return blacks to quasi-sla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des overturned by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ce and discrimination continued on a large sca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publican Rule in the South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5040" cy="56386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7: Southern Republican party organ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inesspeople want government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farmers want protection from cred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s form majority of party, want social and political e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 coalition uns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break up when whites lea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Republican Rule in the South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improve public education, welfare, and transpor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 state legislatures corru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s control most radical state gover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Americans given blame for corru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Claiming Public and Private Rights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59000"/>
            <a:ext cx="8229600" cy="38368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d slaves viewed legalized marriage as an important step in claiming political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lso formed churches, fraternal and benevolent associations, political organizations, and sch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ucation for children was a top pri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treat from Reconstruc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ormous problems 1868–187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nt’s weak principles contribute to fail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ise of the Money Ques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ic of 1873 raises “the money question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tors seek inflationary monetary policy by continuing circulation of "greenbacks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itors, intellectuals support hard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75: government commits to hard 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76: Greenback party formed, makes gains in congressional r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President Versus Congres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orth split on reconstructing the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te House seeks speedy reconstruction with minimum changes in the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seeks slower reconstruction, demands protection for freed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Election of 1868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10" name="Picture 8" descr="DIVI7233TB1602"/>
          <p:cNvPicPr/>
          <p:nvPr/>
        </p:nvPicPr>
        <p:blipFill>
          <a:blip r:embed="rId2"/>
          <a:srcRect l="0" t="16466" r="0" b="0"/>
          <a:stretch/>
        </p:blipFill>
        <p:spPr>
          <a:xfrm>
            <a:off x="304920" y="2362320"/>
            <a:ext cx="8610480" cy="309240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Final Efforts of Reconstruc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9: Fifteenth Amendment pa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enfranchised Northern bl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’s rights group were upset that they were not granted the v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support for black citizenship wa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A Reign of Terror Against Blacks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60962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ret societies used terror tactics to keep blacks out of the political process and near  insurrections against state gover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70s: Congress tries to suppress Ku Klux Klan, other Southern terrorist group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876 Republicans control only South Carolina, Louisiana, and Flor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support for military action w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Spoilsmen Versus Reformers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mors of corruption during Grant's first term discredit Republi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72: Grant wins reelection over Liberal Republican, Democrat Horace Greele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nt’s second term rocked by scand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Election of 1872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pic>
        <p:nvPicPr>
          <p:cNvPr id="122" name="Picture 4" descr="DIVI7233TB1603"/>
          <p:cNvPicPr/>
          <p:nvPr/>
        </p:nvPicPr>
        <p:blipFill>
          <a:blip r:embed="rId2"/>
          <a:srcRect l="0" t="13027" r="0" b="0"/>
          <a:stretch/>
        </p:blipFill>
        <p:spPr>
          <a:xfrm>
            <a:off x="457200" y="1905120"/>
            <a:ext cx="8305920" cy="406872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union and the New South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nd South reconcile after 187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 of  reconcil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Americans stripped of political g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 business interests favored over small farm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Compromise of 1877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on of 1876 dispu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Congressional commission gives disputed vote to Rutherford B. Ha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Democrats accept on two con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uarantee of federal aid to the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al of all remaining federal tro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yes’ agreement ends Re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DIVI7233338"/>
          <p:cNvPicPr/>
          <p:nvPr/>
        </p:nvPicPr>
        <p:blipFill>
          <a:blip r:embed="rId2"/>
          <a:stretch/>
        </p:blipFill>
        <p:spPr>
          <a:xfrm>
            <a:off x="2133720" y="762120"/>
            <a:ext cx="4860720" cy="533376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Redeeming” a New South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"Redeemers" not ideologically coherent, more power brokers between major interest groups commerce,  manufacturing, and agri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in power by doctrine of white supremac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glect problems of small far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Rise of Jim Crow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eemer Democrats systematically exclude black vot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im Crow laws legalize segregation and restrict black civil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910 the process was compl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orth and the federal government did little or nothing to prevent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Wartime Reconstructio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announces lenient policy in 186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resents Lincoln’s effort to contro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men seek to condition readmission to Union on black suffr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mistrusts white Souther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The Rise of Jim Crow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56390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nching—187 blacks lynched yearly 1889–189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Supreme Court decisions gut Reconstruction Amendments 1875–189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union” accomplished as North tacitly acquiesces in Southern discri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Arial"/>
              </a:rPr>
              <a:t>Henry McNeal Turner and the “Unfinished Revolution”</a:t>
            </a:r>
            <a:endParaRPr b="0" lang="en-US" sz="40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nry McNeal Turner’s career summarized the Southern black experience during and after Reco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supported the Union during the war and was elected to GA legislature in Reco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eemed” GA legislature expels him, exemplifying Northerners tacit approval of  oppression of Southern bl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er becomes A.M.E. bishop and major proponent of black emigration to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ndrew Johnson at the Helm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533412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initially support Southern Democrat Johnson as enemy of planter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, Republicans split on Re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 instructs Southern convention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lare secession illeg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udiate Confederate deb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fy the Thirteenth Amend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ndrew Johnson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at the Helm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576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conventions reluctantly carry out Johnson’s 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ntions pass “Black Cod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 approves conventions’ 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condemns con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ongress Takes the Initiative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8229600" cy="39970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insist on black suff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expect to get black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ological commitment to equal rights, even if some did not believe in racial equal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 that South would fall under great planter control without black suff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ongress Takes the Initiative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563904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6: Johnson vetoes two bil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sion of Freedmen’s Bure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vil rights bill to overturn Black C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pass Fourteenth Amend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’s National Union party runs against Republican congressmen in el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ons of 1866 strengthen Republi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ongressional Reconstruction Plan Enacted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under military rule until black suffrage fully secu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lit over duration of federal prot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cals recognize need for long peri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wish military occupation to be sh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umption:  black suffrage sufficient to empower freedmen to protect themsel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8" descr="DIVI7233TB1601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775320"/>
          </a:xfrm>
          <a:prstGeom prst="rect">
            <a:avLst/>
          </a:prstGeom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21:28Z</dcterms:created>
  <dc:creator>CMU</dc:creator>
  <dc:description/>
  <cp:keywords/>
  <dc:language>en-US</dc:language>
  <cp:lastModifiedBy>Matthew Myers</cp:lastModifiedBy>
  <cp:lastPrinted>2012-05-30T00:40:02Z</cp:lastPrinted>
  <dcterms:modified xsi:type="dcterms:W3CDTF">2010-11-24T15:44:44Z</dcterms:modified>
  <cp:revision>11</cp:revision>
  <dc:subject/>
  <dc:title>THE AGONY OF RECONSTRUCTION</dc:title>
</cp:coreProperties>
</file>